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103-2BB5-407F-8C98-482AC182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5D9-19F2-4A99-B17E-FD9A4673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8FF-672A-4FA7-B4A0-8E942DC3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FAB-D8B8-4856-91B5-3E206E20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9AC5-74E0-452C-955F-A40F32AF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2381-E0B3-4C1F-BC2A-0A292FD3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A024-F0D3-4832-B4D2-C590636A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C739-F2D0-411F-B3AE-0A38C6D6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7E19-568F-475F-A980-8873A80B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CF38-7C55-4116-8449-C5ED4687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C808-E0F6-4B59-8EA1-38C6C690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571-F902-4E0A-8311-A0D19052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A7E3-D8EA-48D9-8F03-32E7FA1F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CC42-F532-4760-A628-43C9DEF8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9CA3-7291-4F8E-B39D-FEA79922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146D-D8C4-4D87-8278-55BCA961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7269-0E26-49A8-8A94-063A369B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4A913-D85D-4EDC-92E4-99F79513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95C12-EB99-4A3D-89BF-D428D7D8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7BCD7-EEE9-4629-A201-F0CCF705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E97AF-6A00-4C0E-A47F-0C2ACAEC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F361E-E810-407B-829E-B1C6A07A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B84-EAC3-4ECD-AF13-6B75CC19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DD312-8530-4EB9-B267-E49038DC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3E3E7-73D0-462F-B80A-2A71C153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C3D45-427C-477A-B3C9-EF2D809D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C32CB-F70F-4183-86BB-67D3414A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DBE40-89B6-4CFF-BDBB-DB6D2788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AADBF-DF7D-4DD9-B24E-02F5216F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2769B-9CAB-4FF7-AA51-12EDCCBA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2C82F-2304-4E18-9DDA-3F90A3C3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EA39-DA62-4F38-AB9B-D9AB8169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0E937-75A3-4A42-AA43-90F2C9EB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144-840B-4E9A-9323-74E5B9C7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077BB-0DCC-42A1-87DC-7C02DF72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D8B5C-C164-4B39-A263-797ACFDF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AAAE-E48D-4354-849E-F300C7CB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9A1D-C2A4-4964-B480-07E23F0B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05AE-4D33-4646-95E7-D1E0CD76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08222-2448-4F3F-8A01-1B678CC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882AA-4D49-4648-86BC-57DC1F75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443A2-2FAC-4A39-B9FD-B7E8FFF9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78A29-E677-420C-ACC6-D9CE11C5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1B207-C7E1-4653-B5F1-CB9421D5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D91-CD48-4CD4-B3F1-763E28C3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E9769-2A5D-45DE-A2E2-8741A31B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0B76F-5822-4B26-9267-C266DB85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7B5CD-558E-43B2-BBE1-6A2632AE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B99A4-4403-4694-909C-67662EC5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46EDE-D5C6-4A52-859E-7381AE02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04BE2-B012-464D-B140-8FC974E1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398DB-3551-4C7D-9220-183AE105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9DCF5-89CD-40F5-BFEF-A87C5F7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F94C7-1B40-4B4D-BFAA-9307B7FC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3DE93-5565-4492-8F78-7DE60122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663-8289-44EE-9859-446F789C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7D76B-C916-4C7C-AED1-4CD8C0D6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DBBD4-5223-4C4C-822D-53DBE766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B36798-B2F5-48C6-9301-117C3E62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14B3F-DC19-4340-BA48-A7DF4477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12ED5-49E4-43EF-AFBB-7B8EC6D7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4A61B-E1A8-4AC9-81B0-0D2BDAFD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01F6B-1C6F-4AE9-BDF2-0940D48C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33D79-19ED-4F7A-BC0D-9A7A8869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D1A10-6AAC-4895-B48D-235D9CB2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433976-A665-4D9F-B282-736C4AFE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2F2-B360-4D9B-9BCD-CBE1E465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FCB4D-0106-43DC-9616-BFE2663C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E7B8F7-4E14-44A6-A15B-B463A043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0BCFE-B88B-411A-A5B0-16AB3EAC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E2EA8-5441-433A-8DDC-CAA570EF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A0495-2D28-4571-8C50-21780AC5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A7154-896F-47EE-B8C4-983DB76C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79B25-1A7F-4082-9361-A2D10839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674D4C-A1E4-4F8A-98A2-86028F09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42B81-13F6-466F-898F-3D610B7A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04715-BD45-4EB9-AF1F-647F3B4F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045-5AC8-419D-81D3-4746FEC2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19AC78-FDA5-4E3F-B863-DAEDB8F4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C088D-90CC-4BF4-984B-748C2F2A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42367-B85A-49ED-8A2B-103BE1BB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C3AA2-378D-4CE2-99A0-D6441442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4469E-62C2-4B2E-AA1C-645E04FA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C41-DE7B-421D-9ED7-8BEF2842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4ED3-CF7D-4208-BE5B-BF84C5CF0C1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DC7E-C79D-417D-A3C6-E0052181E88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1EFA-FEF8-40A7-B96D-777B4E7B3D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721A-01E1-4E37-879C-03B3FED76C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98C4-3CA9-423B-B8C5-4AAC7D52800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948C-462E-4FFD-92D3-92F8560A8A1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91C0-DC66-404E-B19C-9D687F5843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4936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i="1" lang="ru-RU" sz="1400" spc="-1" strike="noStrike" u="sng">
                <a:solidFill>
                  <a:srgbClr val="575f6d"/>
                </a:solidFill>
                <a:uFillTx/>
                <a:latin typeface="Century Schoolbook"/>
              </a:rPr>
              <a:t>ЛЕКЦИЯ </a:t>
            </a:r>
            <a:br>
              <a:rPr sz="32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1700280"/>
            <a:ext cx="617220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МЕТОДЫ И МЕТОДОЛОГИЯ НАУЧНОГО ИССЛЕДОВА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1. </a:t>
            </a: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68280"/>
            <a:ext cx="807552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и всеобщих методов научного исследования наиболее известными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иалектический и метафизическ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Эти методы могут быть связаны с различными философскими системами. Их называют общефилософск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иалектический мето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сводится к познанию действительности в ее целостности, развитии и свойственных ей противоречиях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Диалекти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(греч. – «веду беседу, рассуждаю»). Понятие «диалектика» Возникло в Древней Греции и первоначально означало способность вести спор в виде вопросов и от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Диалектика –</a:t>
            </a: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 учение о наиболее общих законах развития бытия и познания, а также основанный на этом учении метод творчески познающего 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052280"/>
            <a:ext cx="80755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алектика выступает в единстве двух сторон – субъективной и объектив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Субъективная диалекти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– развертывается в сознании субъекта как отражение связей и развития существующего независимо от человека и человечества объективного бытия –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иалектики объективн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Субъективная диалектика – теория развития мышления, познания, борьбы идей в науке, философии, разворачивающейся в сознании чело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Объективная диалекти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– теория развития объективного бытия, существующего независимо от чело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467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197000"/>
            <a:ext cx="78598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 изучении предметов и явлений диалектика рекомендует исходить из следующих диалектических принципов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ассматривать изучаемые объекты в свете диалектических законов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единства и борьбы противоположностей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ехода количественных изменений в качественны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трицания отрица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2. Описывать, объяснять и прогнозировать изучаемые явления и процессы, опираясь на философские категории: общего, особенного и единичного; содержания и формы; сущности явления; возможности и действительности; необходимого и случайного; причины и следствия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. Относиться к объекту исследования как к объективной реа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ссматривать исследуемые предметы и явл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)всесторонн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 всеобщей связи и взаимозависим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непрерывном изменении, развит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кретно-историчес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верять полученные знания на практи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197000"/>
            <a:ext cx="81471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афизический мето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является противоположностью диалектическому. Примерно с середины XIX века метафизический метод вытесняется диалектическ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Метафизика –</a:t>
            </a: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метод познания, противоположный диалектике, рассматривающий явления обычно вне их взаимной связи, противоречий и развит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Характерные особенности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односторонность, абстрактность, абсолютизация того или иного момента в составе целого. Объекты рассматриваются вне их сложной связи с другими процессами, явлениями и телам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метафизики характерна статичность мышл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Метафизическа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нцепция развит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сматривает развитие как только уменьшение или увеличение (т.е. как только количественные изменения) или как только качественные изменения без каких-либо количественных изменений, т.е.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трывает противоположности друг от друг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Источник развития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идит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только во внешнем воздействии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вещ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азвит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рассматривается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ли как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ижение по круг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или только как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ижение по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ходящей или нисходящей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ямой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т.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2. ОБЩЕНАУЧ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се общенаучные методы целесообразно распределить для анализа на три групп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2.1. Общелогически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2.2. Теоретические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2.3. Эмпирически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2.1. ОБЩЕЛОГИЧЕСКИЕ МЕТОД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Анализ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Синтез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ндукц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Дедукц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Аналог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нализ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это расчленение, разложение объекта исследования на составные части.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н лежит в основе аналитического метода исследовани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новидностями анализа 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классификация и периодизация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етод анализа используется как в реальной, так и в мысли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ПОНЯТИЕ МЕТОД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859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Метод научного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— это способ познания объективной действительност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пособ представляет собой определенную последовательность действий, приемов, операци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341000"/>
            <a:ext cx="821844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интез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соединение отдельных сторон, частей объекта исследования в единое целое, причем это не просто их соединение, но и познание нового — взаимодействия частей как целого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зультатом синтеза является совершенно новое образование, свойства которого не есть только внешнее соединение свойств компонентов, но также и результат их внутренней взаимосвязи и взаимозависим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341000"/>
            <a:ext cx="79311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Индукция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движение мысли (познания) от фактов, отдельных случаев к общему положению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уктивные умозаключения "наводят" на мысль, на общее.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 индуктивном методе исследования для получения общего знания о каком-либо классе предметов необходимо исследовать отдельные предметы, найти в них общие существенные признаки, которые послужат основой знания об общем признаке, присущем данному классу предм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едукци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выведение единичного, частного из какого-либо общего положения; движение мысли (познания) от общих утверждений к утверждениям об отдельных предметах или явлениях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средством дедуктивных умозаключений "выводят" определенную мысль из других мысл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341000"/>
            <a:ext cx="81471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налоги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способ получения знаний о предметах и явлениях на основании того, что они имеют сходство с другими, из сходства изучаемых объектов в некоторых признаках делается заключение об их сходстве и в других признаках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тепень вероятности (достоверности) умозаключений по аналогии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зависит от количества сходных признаков у сравниваемых явлени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2.2. МЕТОДЫ ТЕОРЕТИЧЕСКОГО УРОВНЯ:</a:t>
            </a:r>
            <a:r>
              <a:rPr b="0" lang="ru-RU" sz="3000" spc="-1" strike="noStrike">
                <a:solidFill>
                  <a:srgbClr val="0070c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484280"/>
            <a:ext cx="74674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ксиоматический метод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Гипотетический метод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формализаци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бстрагировани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общени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осхождение от абстрактного к конкретном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сторический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етод системного анализ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ксиоматический метод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способ исследования, который состоит в том, что некоторые утверждения (аксиомы, постулаты) принимаются без доказательств и затем по определенным логическим правилам из них выводятся остальные зн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773000"/>
            <a:ext cx="800244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Гипотетический метод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—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способ исследования с использованием научной гипотезы, т. е. предположения о причине, которая вызывает данное следствие, или о существовании некоторого явления или предмет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197000"/>
            <a:ext cx="78598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Формализация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отображение явления или предмета в знаковой форме какого-либо искусственного языка (например, логики, математики, химии) и изучение этого явления или предмета путем операций с соответствующими знака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ование искусственного формализованного языка в научном исследовании позволяет устранить такие недостатки естественного языка, как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ногознач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точ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определенность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 формализации вместо рассуждений об объектах исследования оперируют со знаками (формулами). Путем операций с формулами искусственных языков можно получать новые формулы, доказывать истинность какого-либо полож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125000"/>
            <a:ext cx="800244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бстра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мысленное отвлечение от некоторых свойств и отношений изучаемого предмета и выделение интересующих исследователя свойств и отношен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иды абстрагирования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b0f0"/>
                </a:solidFill>
                <a:latin typeface="Century Schoolbook"/>
              </a:rPr>
              <a:t>отождествление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, т. е. выделение общих свойств и отношений изучаемых предметов, установление тождественного в них, абстрагирование от различий между ними, объединение предметов в особый класс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b0f0"/>
                </a:solidFill>
                <a:latin typeface="Century Schoolbook"/>
              </a:rPr>
              <a:t>изолирование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, т. е. выделение некоторых свойств и отношений, которые рассматриваются как самостоятельные предметы исследования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b0f0"/>
                </a:solidFill>
                <a:latin typeface="Century Schoolbook"/>
              </a:rPr>
              <a:t>абстракция потенциальной осуществимости, т.е.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 метод, применяемый в рамках идеи так называемой потенциальной бесконечности как процесса неограниченных количественных изменений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413000"/>
            <a:ext cx="78598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общен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установление общих свойств и отношений предметов и явлений, определение общего понятия, в котором отражены существенные, основные признаки предметов или явлений данного класс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месте с тем обобщение может выражаться в выделении не существенных, а любых признаков предмета или явления. Этот метод научного исследования опирается на философские категории общего, особенного и единично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002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entury Schoolbook"/>
              </a:rPr>
              <a:t>ОТ РАССМАТРИВАЕМОГО ПОНЯТИЯ МЕТОДА СЛЕДУЕТ ОТЛИЧАТЬ ПОНЯТИЯ ТЕХНИКИ, ПРОЦЕДУРЫ И МЕТОДИКИ НАУЧНОГО ИССЛЕДОВАНИЯ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484280"/>
            <a:ext cx="78598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ехник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сследования понимают совокупность специальных приемов для использования того или иного мет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цедур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сследования понимают определенную последовательность действий, способ организации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и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это совокупность способов и приемов исследования, порядок их применения и интерпретация полученных с их помощью результат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197000"/>
            <a:ext cx="79311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Исторический метод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лючается в выявлении исторических фактов и на этой основе в таком мысленном воссоздании исторического процесса, при котором раскрывается логика его движения. Он предполагает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изучение возникновения и развития объектов исследования в хронологической последова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125000"/>
            <a:ext cx="800244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осхождение от абстрактного к конкретному как метод научного познани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лючается в том, что исследователь вначале находит главную связь изучаемого предмета (явления), затем прослеживает, как она видоизменяется в различных условиях, открывает новые связи и таким путем отображает во всей полноте его сущность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197000"/>
            <a:ext cx="79311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истемный метод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лючается в исследовании системы (т. е. определенной совокупности материальных или идеальных объектов), связей, ее компонентов и их связей с внешней средой. При этом выясняется, что эти взаимосвязи и взаимодействия приводят к возникновению новых свойств системы, которые отсутствуют у составляющих ее объ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анализе явлений и процессов в сложных системах рассматривают большое количество факторов (признаков), среди которых важно уметь выделить главное и исключить второстепенно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2.3. 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писа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ч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измере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эксперимент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моделирова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052280"/>
            <a:ext cx="793116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Наблюдение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— это способ познания, основанный на непосредственном восприятии свойств предметов и явлений при помощи органов чувств. В результате наблюдения исследователь получает знания о внешних свойствах и отношениях предметов и явлений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В зависимости от положения исследователя по отношению к объекту изучения, различают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стое и включенное наблюдение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вое заключается </a:t>
            </a: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в наблюдении со стороны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, когда исследователь — постороннее по отношению к объекту лицо, не являющееся участником деятельности наблюдаемых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торое характеризуется тем, что исследователь </a:t>
            </a: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открыто или инкогнито включается в группу и ее деятельность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качестве участник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наблюдение проводилось в естественной обстановке, то его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евы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а если условия окружающей среды, ситуация были специально созданы исследователем, то оно будет считаться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абораторны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зультаты наблюдения могут фиксироваться в протоколах, дневниках, карточках, на кинопленках и другими способ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268280"/>
            <a:ext cx="800244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писание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фиксация признаков исследуемого объекта, которые устанавливаются, например, путем наблюдения или измер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исание бывае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епосредственны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огда исследователь непосредственно воспринимает и указывает признаки объек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посредованны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огда исследователь отмечает признаки объекта, которые воспринимались другими лицами (например, характеристики НЛО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268280"/>
            <a:ext cx="78598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чет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800" spc="-1" strike="noStrike">
                <a:solidFill>
                  <a:srgbClr val="00b0f0"/>
                </a:solidFill>
                <a:latin typeface="Century Schoolbook"/>
              </a:rPr>
              <a:t>это определение количественных соотношений объектов исследования или параметров, характеризующих их свойств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широко применяется в статистике для определения степени и типа изменчивости явления, процесса, достоверности полученных средних величин и теоретических вывод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268280"/>
            <a:ext cx="771516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змерение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— это определение численного значения некоторой величины путем сравнения ее с эталоном. Измерение есть процедура определения численного значения некоторой величины посредством единицы измер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ность этой процедуры в том, что она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дает точные, количественные определенные и сведения об окружающей действите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ажнейшим показателем качества измерения, его научной ценности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очност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оторая зависит от усердия исследователя, главным образом от имеющихся измерительных приборов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268280"/>
            <a:ext cx="771516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равнение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сопоставление признаков, присущих двум или нескольким объектам, установление различия между ними пли нахождение в них общего, осуществляемое как органами чувств, так и с помощью специальных устройст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ОЛОГ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268280"/>
            <a:ext cx="793116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юбое научное исследование проводится соответствующими приемами и способами и по определенным правилам.  Учение о системе этих приемов, способов и правил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ологие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литературе под этим понятием подразумевается </a:t>
            </a:r>
            <a:r>
              <a:rPr b="1" lang="ru-RU" sz="2400" spc="-1" strike="noStrike">
                <a:solidFill>
                  <a:srgbClr val="00b0f0"/>
                </a:solidFill>
                <a:latin typeface="Century Schoolbook"/>
              </a:rPr>
              <a:t>совокупность методов, применяемых в какой-либо сфере деятельности (науке, политике и т. д.) и учение о научном методе позн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ждая наука имеет свою методологию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341000"/>
            <a:ext cx="80755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600" spc="-1" strike="noStrike">
                <a:solidFill>
                  <a:srgbClr val="00b0f0"/>
                </a:solidFill>
                <a:latin typeface="Century Schoolbook"/>
              </a:rPr>
              <a:t>Эксперимент</a:t>
            </a:r>
            <a:r>
              <a:rPr b="0" i="1" lang="ru-RU" sz="2600" spc="-1" strike="noStrike">
                <a:solidFill>
                  <a:srgbClr val="00b0f0"/>
                </a:solidFill>
                <a:latin typeface="Century Schoolbook"/>
              </a:rPr>
              <a:t> </a:t>
            </a:r>
            <a:r>
              <a:rPr b="0" lang="ru-RU" sz="2600" spc="-1" strike="noStrike">
                <a:solidFill>
                  <a:srgbClr val="00b0f0"/>
                </a:solidFill>
                <a:latin typeface="Century Schoolbook"/>
              </a:rPr>
              <a:t>— это искусственное воспроизведение явления, процесса в заданных условиях, в ходе которого проверяется выдвигаемая гипотез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Эксперименты могут быть классифицированы по различным основаниям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о отраслям научных исследований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— физические, биологические, химические, социальные и т. д.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о характеру взаимодействия средства исследования с объектом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— обычные (экспериментальные средства непосредственно взаимодействуют с исследуемым объектом) и модельные (модель замещает объект исследования)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одельные делятся на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ысленные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(умственные, воображаемые) и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атериальные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(реальные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спериментальное изучение объектов по сравнению с наблюдением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имеет ряд преимущест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оцессе эксперимента становится возможным изучение того или иного явления в "чистом виде"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сперимент позволяет исследовать свойства объектов действительности в экстремальных условия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413000"/>
            <a:ext cx="771516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одел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— метод научного познания, сущность которого заключается в замене изучаемого предмета или явления специальной аналогичной моделью (объектом), содержащей существенные черты оригинал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им образом, вместо оригинала (интересующего нас объекта) эксперимент проводят на модели (другом объекте), а результаты исследования распространяют на оригина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125000"/>
            <a:ext cx="785988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entury Schoolbook"/>
              </a:rPr>
              <a:t>Модели бывают физические и математическ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оответствии с этим различают физическое и математическое моделирование. Если модель и оригинал одинаковой физической природы, то применяют физическое моделиров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атематическая модель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это математическая абстракция, характеризующая физический, биологический, экономический или какой-либо другой процесс. Математические модели при различной физической природе основаны на идентичности математического описания процессов, происходящих в них и в оригинал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268280"/>
            <a:ext cx="74674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атематическое модел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метод исследования сложных процессов на основе широкой физической аналогии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одель и ее оригинал описываются тождественными уравнениям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арактерная особенность и достоинство данного метода — возможность применять его к отдельным участкам сложной системы, а также количественно исследовать явления, трудно поддающиеся изучению на физических моделя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197000"/>
            <a:ext cx="807552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оделирование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000" spc="-1" strike="noStrike">
                <a:solidFill>
                  <a:srgbClr val="00b0f0"/>
                </a:solidFill>
                <a:latin typeface="Century Schoolbook"/>
              </a:rPr>
              <a:t>это один из главных методов научного исследования, с помощью которого можно ускорить существующие технологические процессы, сократить сроки освоения новых. Этот метод применяют при изучении различных технологий, режимов работы аппаратов, машин, агрегатов, промышленных комплексов и хозяйств, а также в управлении предприятиями, распределении материальных ресурсов и т. д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ажен еще один аспект метода моделировани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Если для обычного эксперимента характерно непосредственное взаимодействие с объектом исследования, то в моделировании такого взаимодействия нет, так как изучают не сам объект, а его заменитель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Примером может служить аналоговая вычислительная машина, действие которой основано на аналогии дифференциальных уравнений, описывающих свойства как исследуемого объекта, так и электронной модел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3. 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альные методы исследования используются только в какой-нибудь одной отрасли и научного знания либо их применение ограничивается несколькими узкими областями зна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, к специальным методам относятся конкретно-социологические мето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кретно-социологические методы основаны на применении методов конкретной социологии для изучения социальных явлений. Конкретно-социологические исследования — это научное изучение, анализ и систематизация социальных фактов, явлений и процессов, относящихся к различным сферам жизни общест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методам конкретно-социологического исследования, применяемым в социально-экономических науках, относятся изучение документов (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окументальный метод), опросы в форме анкетирования и интервью, метод экспертных оценок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 социологи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еляют метод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гистрации единичных событий (наблюдение, опрос, изучение документов и т. д.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бора данных (сплошное, выборочное или монографическое обследование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ботки и анализа данных (описание и классификация, типологизация, системный анализ, статистический анализ и т. д.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Изучение документов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документальный метод). Документ — это объект исследования, содержащий информацию на любом материальном носителе (бумаге, магнитной ленте, дискете и др.) при помощи какой-либо знаковой систем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уществуют различные классификации документ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 общей значимости документы можно разделить на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фициальные и неофициальные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фициальные документы имеют "служебный" характер, поскольку они составлены государственными и муниципальными органами и учреждениями, коммерческими и некоммерческими организациям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 неофициальным относятся в основном личные документы, касающиеся жизни и деятельности лица или группы лиц (письма, автобиографии, мемуары, речи, дневники и пр.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ОЛОГ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онечном счете философы и экономисты под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ологией научного исследования понимают </a:t>
            </a:r>
            <a:r>
              <a:rPr b="1" lang="ru-RU" sz="2400" spc="-1" strike="noStrike" u="sng">
                <a:solidFill>
                  <a:srgbClr val="00b0f0"/>
                </a:solidFill>
                <a:uFillTx/>
                <a:latin typeface="Century Schoolbook"/>
              </a:rPr>
              <a:t>учение о методах (методе) познания, т. е. о системе принципов, правил, способов и приемов, предназначенных для успешного решения познавательных задач.</a:t>
            </a:r>
            <a:r>
              <a:rPr b="0" lang="ru-RU" sz="2400" spc="-1" strike="noStrike" u="sng">
                <a:solidFill>
                  <a:srgbClr val="00b0f0"/>
                </a:solidFill>
                <a:uFillTx/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, методология экономической науки может быть определена как учение о методах исследования применяемых в этой отрасли нау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окументы, какими бы достоверными они на первый взгляд ни казались, требуют к себе критического отношения, поскольку содержащиеся в них сведения могут быть неверными, неполными. Поэтому документ следует проанализировать, ответив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что он представляет собой по виду и форме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ова подлинность текста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то его автор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ремя, место и обстоятельства возникновения документа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ова достоверность содержащихся в нем сведений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сколько полна закрепленная в документе информация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)каковы цели создания документа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изучении документов может быть использован количественный метод, называемый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онтент-анализом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го суть заключается в выделении в изучаемом документе определенных признаков (единиц анализа), подсчете их количества и определении частоты употребления таких признаков в общем объеме имеющейся информации или в общем количестве изученных документ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ндикаторами, т. е. конкретными указателями на присутствие единиц анализа в документе, могут быть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потребленные в тексте понятия, события, наименования, имена собственные, устойчивые словосочетан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едложения (утверждения, вопросы, оценки и т. п.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вокупность высказываний на определенную тему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ля количественного анализа составляют вопросник, содержащий набор вопросов на определенную тему, ответы на которые могут быть получены из документ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ое значение в сборе первичной информации со слов опрашиваемого имеет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етод опрос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опроса может про-изводиться заочно путем распространения, сбора и обработки анкет (анкетирования) либо очно, в форме беседы с опрашиваемым лицом. Эти методы широко используются, например, при изучении положения товарного рынка по следующим параметрам: количество и качество товара, конкурентоспособность товара, ассортимент продукции на торговом предприя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Интервью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— это беседа исследователя с респондентом по определенному плану. Интервью может проводить сам исследователь или его помощники. Исследователь, пользуясь вопрос­ником, планом, бланком или карточкой, задает вопросы, направляет беседу, фиксирует ответы опрашиваемы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нтервью может быть стандартизированным или свободны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тандартизированное интервью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существляется по закрытым вопросам, и исследователю остается лишь пометить от­вет подчеркиванием, крестиком либо записать его в балльной системе (1, 2, 3 и т. д.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вободное интервью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это беседа с респондентом по определенному кругу вопросов, по которым ему предоставляется свобода ответ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етод экспертных оценок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ключается в изучении мне­ния специалистов, обладающих глубокими знаниями и практическим опытом в определенной сфере. В качестве экспертов отбираются как научные, так и практические работники (не более 20— 30 человек). Для определения их компетентности применяются следующие способ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вристический (интуитивные оценки, даваемые самими экспертами друг другу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атистический (оценки, полученные путем анализа суждений экспертов по изучаемому вопросу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естовый (оценки, полученные путем тестовых испытаний экспертов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окументальный (оценки, полученные путем изучения материалов, характеризующих экспертов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мбинированный (оценки, полученные с использованием нескольких из перечисленных способов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татистическая сводк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оит в том, что содержащиеся и анкетах, карточках и других материалах сведения систематизируются, сводятся в статистические совокупности и обозначаются обобщающими показателями (абсолютными числами, процентами и т. д.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4674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ИМЕЮТСЯ СЛЕДУЮЩИЕ УРОВНИ МЕТОДОЛОГИ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сеобщая методолог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оторая является универсальной по отношению ко всем наукам и в ее содержание входят философские и общенаучные методы позн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астная методология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учных исследований для группы родственных наук, которую образуют всеобщие, общенаучные и частные методы позн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олог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учных исследований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кретной наук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в содержание которой включаются всеобщие, общенаучные, частные и специальные методы позн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КЛАССИФИКАЦИЯ МЕТОД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413000"/>
            <a:ext cx="78598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00b0f0"/>
                </a:solidFill>
                <a:latin typeface="Century Schoolbook"/>
              </a:rPr>
              <a:t>В зависимости от содержания изучаемых объектов различают</a:t>
            </a:r>
            <a:r>
              <a:rPr b="0" lang="ru-RU" sz="2200" spc="-1" strike="noStrike">
                <a:solidFill>
                  <a:srgbClr val="00b0f0"/>
                </a:solidFill>
                <a:latin typeface="Century Schoolbook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ы естествозн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ы социально-гуманитарного исслед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b0f0"/>
                </a:solidFill>
                <a:latin typeface="Century Schoolbook"/>
              </a:rPr>
              <a:t>Методы исследования классифицируют </a:t>
            </a:r>
            <a:r>
              <a:rPr b="1" lang="ru-RU" sz="2200" spc="-1" strike="noStrike">
                <a:solidFill>
                  <a:srgbClr val="00b0f0"/>
                </a:solidFill>
                <a:latin typeface="Century Schoolbook"/>
              </a:rPr>
              <a:t>по отраслям науки</a:t>
            </a:r>
            <a:r>
              <a:rPr b="0" lang="ru-RU" sz="2200" spc="-1" strike="noStrike">
                <a:solidFill>
                  <a:srgbClr val="00b0f0"/>
                </a:solidFill>
                <a:latin typeface="Century Schoolbook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атематическ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биологическ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едицинск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циально-экономическ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авовые и т. д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КЛАССИФИКАЦИЯ МЕТОД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413000"/>
            <a:ext cx="8002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зависимости от уровня познания выделяют </a:t>
            </a:r>
            <a:r>
              <a:rPr b="1" lang="ru-RU" sz="2400" spc="-1" strike="noStrike">
                <a:solidFill>
                  <a:srgbClr val="00b0f0"/>
                </a:solidFill>
                <a:latin typeface="Century Schoolbook"/>
              </a:rPr>
              <a:t>методы эмпирического и теоретического уровн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методам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эмпирического уровн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относят наблюдение, описание, сравнение, счет, измерение, анкетный опрос, собеседование, тестирование, эксперимент, моделиров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методам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еоретического уровн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причисляют аксиоматический, гипотетический (гипотетико-дедуктивный), формализацию, абстрагирование, общелогические методы (анализ, синтез, индукцию, дедукцию, аналогию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КЛАССИФИКАЦИЯ МЕТОД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341000"/>
            <a:ext cx="800244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зависимости </a:t>
            </a:r>
            <a:r>
              <a:rPr b="1" lang="ru-RU" sz="2400" spc="-1" strike="noStrike">
                <a:solidFill>
                  <a:srgbClr val="00b0f0"/>
                </a:solidFill>
                <a:latin typeface="Century Schoolbook"/>
              </a:rPr>
              <a:t>от сферы применения и степени общности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личают метод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сеобщи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(философские), действующие во всех науках и на всех этапах позна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бщенаучные,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которые могут применяться в гуманитарных, естественных и технических науках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циа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— для конкретной науки, области научного позн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4:04:15Z</dcterms:created>
  <dc:creator>NICH</dc:creator>
  <dc:description/>
  <dc:language>en-US</dc:language>
  <cp:lastModifiedBy>Admin</cp:lastModifiedBy>
  <dcterms:modified xsi:type="dcterms:W3CDTF">2021-11-08T11:12:52Z</dcterms:modified>
  <cp:revision>36</cp:revision>
  <dc:subject/>
  <dc:title>МЕТОДЫ И МЕТОДОЛОГИЯ НАУЧНОГО ИССЛЕДОВАНИЯ</dc:title>
</cp:coreProperties>
</file>